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C3F858-8A7F-4431-9A07-76C70BFA5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029BBA-3A32-4D0C-B399-C44BF8852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9C11C7-EB90-4A92-864E-27E20A380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166C46-B3DF-4723-82A0-8805D5E94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DE84F0-D29F-4A1C-A1B2-2CFB4BA7B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57B9BE-61C8-4C5E-9BD9-508729CA2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BBB1DE-087F-4638-B262-120196EA9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1D1033-245B-4B14-A927-7668302CD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609C61-6DF3-4547-A405-8C54AC72A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868ED3-6642-4E75-AADF-96C5D1DEE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9C7F78-06F0-4143-A5F2-1385A7B5D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151D6D-68BC-4419-A047-CFA97D82A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976DD5-3A3B-483A-9735-CE83AC9B8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7CD4E8-608D-44A4-A502-1D6DE8F4D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9EF389-BE16-45C7-BD01-54F4B3A43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4B5ECA-60C3-426A-B3ED-E66CA585C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1AEA06-A48D-43D4-80E2-DE2260BEE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368A1F-4B56-4A06-A04A-8C93E9DBF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76C0C0-ACE3-45E1-8446-B05ECBA9B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F4F18B-9772-4B40-9A76-E60DCAB89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4D3172-8B9F-47A0-8C3B-206AA8E4F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A78C7F-DB19-4EAE-B644-5E8A00CBC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E93750-5891-479F-B427-E1AD931FF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C58B51-DFB7-4E04-8B54-6AEDB1EDD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CD192E-8AAB-471C-A68F-12E828945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F2D54-8DE4-4311-89BB-FBD0124A0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0FFE8-7CC2-441F-B1B3-32D2982A9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16D4B-6CF1-4262-A4DD-D63CB16B6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EE0B7-BA42-41A9-8DE5-40FBA0F94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71F97-FD3C-4DC0-9BDE-CFBEB10BB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B01DB-03FD-408D-9BC5-18CC74993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9B8BC-D8B9-4D41-819A-7AA0CADC0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4704E1-93BF-48EE-861C-50ADD71B2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FFE2D-0C7A-4C51-8D13-8989770E3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68339-F5FC-47F4-8FC4-E69AFF131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BDD3C-4519-4711-85FF-F8260BE89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19B58-85C7-4D6E-8D73-A767F09D6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641D5-04C6-4F7E-9ABF-A25BFDC68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A693FB-CFFD-43E8-9E0B-8C39102C1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322FB3-209A-437D-BE70-68ED022FA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63BECA-3A5D-4541-9C32-EF7ABB9CB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6F723F-90C0-4960-B958-349D639F5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19A827-28B3-47B0-8424-49F825F63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7C6F52-30E0-45F9-B807-F22276EA0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ED56EF-056F-402D-A7CB-7290CF0C4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8732B6-D618-4594-8BBF-285F5A693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27411A-666D-405A-A226-CFC052180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FC40E2-B7DF-4BBB-B267-C817515D6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409CC4-EEE4-4CC3-84C1-AFFD722BB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1196AB-0AFA-4EAE-9B32-C31A7E6EF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DD2767-714F-4ACD-B7D1-2BDD05089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1407DC-FB82-4931-A29C-6A182A074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35059D-2042-46F1-B9D5-AF5593BB2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7C500D-FE36-4CF8-92EE-721D69A12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4F6AA3-A617-42E9-BFB2-228EE5C4E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6719A6-C5F4-4954-9882-CDDB2FC8A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07FCAB-1D4C-4D2E-B68A-F64E11005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D500B7-8F1D-446C-942C-BD84F3353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01B9AC-8D53-4698-BEB1-BC46E3109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CBFB84-C21F-47D7-A336-1FE40E7B3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3D1CC7-67BA-484D-B643-31EA591C1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A3CD42-D130-4F2C-BBEA-CD1E02A38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1A0E87-FE60-4F4D-9E2B-6DDE2AC72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8028FD-8545-46BC-B673-C4FF35BCE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7DF4A9-597B-4B0B-BEAF-2AE81DFF2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F226E7-61A8-41DB-A6B4-3D1606AB0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0FC984-19FD-4A9B-9907-CD2A92326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3EA385-1ED9-44E4-B9B3-27343B907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E268C7-1ABE-44C7-BE6F-A944481D4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FDAE2A-C180-47F7-B5F6-B0671BFEA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79D8AA-6A68-4A1D-A1B6-C028D935A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45230A-56D3-47D7-96A5-FB1694CA1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5BB985-5348-41C2-957B-9934CE827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9023D6-4E7C-4D1F-901F-E78973F9B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C3DD03-1F60-4CFC-897D-F80DD4814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56858E-46A7-440F-AC3B-9EDA9ED8D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5380B4-6A54-4F34-9F06-1847C78C6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EAE8EE-2E38-4E0F-ADD6-0639AB48F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B615FE-D4C2-4E59-A57B-65396B2A6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937F2A-FFA9-4CB9-9C3B-B09F43BD4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AF5AAB-F116-4828-AC91-6221B1BA4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B4C392-75B3-4D5F-A560-C1F141552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51D19B-6723-4D28-8314-5E4676BF1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5695FA-C690-450B-A7C3-06563D657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E19498-3201-43FE-8CBF-66D3C6656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DD21E2-6403-4D0A-805E-7DF70968D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0F41D4-770A-44B3-A2F9-746CB9490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70719A-9371-41A1-AD77-E234671BE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FDE481-7505-4F12-85B5-7356489ED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085CB9-92E5-4593-BC3B-2C1E0B3B8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C56C4D-5546-44B6-A484-3471B0FEA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CB4A200-BBDC-47D1-A986-3C6086D2F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B59A9F4-43E2-43B8-B5FC-66951F38A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5374D20-600F-44D8-90E6-2513D891E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9559A72-CB9D-4EA4-B45D-38919BC1D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7170A33-2D41-4EE5-ABA6-B843F04C5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2C607F3-A6A6-4DCC-8E9E-9B26C30B9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F501227-0911-44A5-88A0-5C61DF6F4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1BA300-8F18-4265-9AB7-841E6BCF1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C5FD797-8D7B-4B00-90A5-AB1FC3736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9B30923-693C-4246-B2C1-A01C688F4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735DEE5-948D-4B23-A6CC-FC4371E58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AED5C6F-A529-46CC-8F53-7A352C30F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A0316A7-032C-430B-A801-B56C3CA1B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8ABFFB-1C9D-4965-AD11-8113EBC14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CA4426-78E3-4B77-BFC8-351AC9669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4136CD-892C-4C04-A6B0-B4BE21452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B18A3E-9268-4194-8F8D-BFB91BF10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960405-AD16-49A6-A897-9202B0601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FAD92F-D3CD-4C7B-8F09-7B603A0B7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F79CC1-DB96-4025-9BB0-89E3E286F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C08903-4CF2-41E4-8FA3-5E0839D8D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21B5AE-ECC1-40A4-ACAC-7A8AE3EDD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1BEBAF-6AE8-4F03-A8E7-C8A1E5A1D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158C0E-A926-4AF3-8526-5D0B96129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8CF691-EB64-4E9B-806E-DE8DA2161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BAD899-3EFD-49B2-8E37-CF122A459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33D320-7DFF-452E-8572-CF209BB9D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47558F-A52F-4C24-8D85-E997F932A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99AD02-B007-4507-9BA9-7FA42C653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0851F-1B39-44C5-8EB1-58BC6E65546F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1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502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dt" idx="28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ftr" idx="29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sldNum" idx="30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AF36B-1F25-4BE3-A3DA-7A38C9934D21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FEE59-48D1-4561-AB5E-E5D2431DF88C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26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dt" idx="7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ftr" idx="8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sldNum" idx="9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1ACCC-7A7C-4584-B1A5-02D2AE056D4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202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6" name="PlaceHolder 1"/>
          <p:cNvSpPr>
            <a:spLocks noGrp="1"/>
          </p:cNvSpPr>
          <p:nvPr>
            <p:ph type="dt" idx="10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ftr" idx="11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sldNum" idx="12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26418-3E14-48D2-BB82-220FFA09F04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3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8DFE3-ED69-4BEE-9DDE-B6DF28117E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dt" idx="16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sldNum" idx="18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4F007-DD78-4171-8B3F-432D9A0475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dt" idx="19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Num" idx="20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84D74-5C22-44EA-B70B-F30723994C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60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361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8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 type="ftr" idx="21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7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408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09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14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dt" idx="22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 type="ftr" idx="23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 type="sldNum" idx="24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D2E86-49E0-464C-AA05-BDD634CED2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6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457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dt" idx="25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ftr" idx="26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 type="sldNum" idx="27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177E8-5E45-47F6-B32C-01121DD2C2B8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50states.com/georgia.htm" TargetMode="External"/><Relationship Id="rId3" Type="http://schemas.openxmlformats.org/officeDocument/2006/relationships/image" Target="../media/image5.png"/><Relationship Id="rId4" Type="http://schemas.openxmlformats.org/officeDocument/2006/relationships/hyperlink" Target="http://quickfacts.census.gov/qfd/maps/georgia_map.html" TargetMode="External"/><Relationship Id="rId5" Type="http://schemas.openxmlformats.org/officeDocument/2006/relationships/image" Target="../media/image6.png"/><Relationship Id="rId6" Type="http://schemas.openxmlformats.org/officeDocument/2006/relationships/hyperlink" Target="http://www.50states.com/georgia.htm" TargetMode="External"/><Relationship Id="rId7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 txBox="1"/>
          <p:nvPr/>
        </p:nvSpPr>
        <p:spPr>
          <a:xfrm rot="5400000">
            <a:off x="464040" y="1135440"/>
            <a:ext cx="5029200" cy="3214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Georgi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546" name=""/>
          <p:cNvSpPr/>
          <p:nvPr/>
        </p:nvSpPr>
        <p:spPr>
          <a:xfrm>
            <a:off x="5867280" y="4952880"/>
            <a:ext cx="29718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an Sloub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ptember 20 20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riod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uter 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7" name="" descr=""/>
          <p:cNvPicPr/>
          <p:nvPr/>
        </p:nvPicPr>
        <p:blipFill>
          <a:blip r:embed="rId3"/>
          <a:stretch/>
        </p:blipFill>
        <p:spPr>
          <a:xfrm>
            <a:off x="5486400" y="762120"/>
            <a:ext cx="3505320" cy="2438280"/>
          </a:xfrm>
          <a:prstGeom prst="rect">
            <a:avLst/>
          </a:prstGeom>
          <a:ln w="0">
            <a:noFill/>
          </a:ln>
        </p:spPr>
      </p:pic>
      <p:pic>
        <p:nvPicPr>
          <p:cNvPr id="548" name="" descr=""/>
          <p:cNvPicPr/>
          <p:nvPr/>
        </p:nvPicPr>
        <p:blipFill>
          <a:blip r:embed="rId4"/>
          <a:stretch/>
        </p:blipFill>
        <p:spPr>
          <a:xfrm>
            <a:off x="7772400" y="4800600"/>
            <a:ext cx="533520" cy="457200"/>
          </a:xfrm>
          <a:prstGeom prst="rect">
            <a:avLst/>
          </a:prstGeom>
          <a:ln w="0">
            <a:noFill/>
          </a:ln>
        </p:spPr>
      </p:pic>
      <p:sp>
        <p:nvSpPr>
          <p:cNvPr id="549" name=""/>
          <p:cNvSpPr/>
          <p:nvPr/>
        </p:nvSpPr>
        <p:spPr>
          <a:xfrm>
            <a:off x="5410080" y="3581280"/>
            <a:ext cx="3429000" cy="166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50 States,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Tahoma"/>
              </a:rPr>
              <a:t>Georgia song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,10/7/2010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50states.com/georg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/>
          </p:nvPr>
        </p:nvSpPr>
        <p:spPr>
          <a:xfrm>
            <a:off x="380880" y="152280"/>
            <a:ext cx="822960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eorg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ate capital: Atlan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pulation:8,186,45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state that Entered union January 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n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178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tto: Wisdom, justice and moder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ickname: Peach Sta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lower: Cherokee Ro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ird: Brown Thrash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ng: Georgia on my mi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l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0" fill="hold"/>
                                        <p:tgtEl>
                                          <p:spTgt spid="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0" fill="hold"/>
                                        <p:tgtEl>
                                          <p:spTgt spid="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0" fill="hold"/>
                                        <p:tgtEl>
                                          <p:spTgt spid="5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0" fill="hold"/>
                                        <p:tgtEl>
                                          <p:spTgt spid="5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0" fill="hold"/>
                                        <p:tgtEl>
                                          <p:spTgt spid="5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0" fill="hold"/>
                                        <p:tgtEl>
                                          <p:spTgt spid="5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0" fill="hold"/>
                                        <p:tgtEl>
                                          <p:spTgt spid="5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0" fill="hold"/>
                                        <p:tgtEl>
                                          <p:spTgt spid="5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0" fill="hold"/>
                                        <p:tgtEl>
                                          <p:spTgt spid="5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0" fill="hold"/>
                                        <p:tgtEl>
                                          <p:spTgt spid="5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0" fill="hold"/>
                                        <p:tgtEl>
                                          <p:spTgt spid="5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0" fill="hold"/>
                                        <p:tgtEl>
                                          <p:spTgt spid="5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5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5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" descr="Georgia State Fla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33520" y="228600"/>
            <a:ext cx="3504960" cy="2133720"/>
          </a:xfrm>
          <a:prstGeom prst="rect">
            <a:avLst/>
          </a:prstGeom>
          <a:ln w="0">
            <a:noFill/>
          </a:ln>
        </p:spPr>
      </p:pic>
      <p:pic>
        <p:nvPicPr>
          <p:cNvPr id="552" name="" descr="Click for detailed Georgia counties map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04920" y="4191120"/>
            <a:ext cx="4114800" cy="2435040"/>
          </a:xfrm>
          <a:prstGeom prst="rect">
            <a:avLst/>
          </a:prstGeom>
          <a:ln w="0">
            <a:noFill/>
          </a:ln>
        </p:spPr>
      </p:pic>
      <p:sp>
        <p:nvSpPr>
          <p:cNvPr id="553" name=""/>
          <p:cNvSpPr/>
          <p:nvPr/>
        </p:nvSpPr>
        <p:spPr>
          <a:xfrm>
            <a:off x="609480" y="3581280"/>
            <a:ext cx="73152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0 States .com,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Georgia on my mind 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dnesday, September 22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10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hlinkClick r:id="rId6"/>
              </a:rPr>
              <a:t>http://www.50states.com/georgia.ht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609480" y="3581280"/>
            <a:ext cx="73152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0 States .com,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Georgia on my mind 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dnesday, September 22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10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 http://www.50states.com/georgia.ht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51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" descr="All images Copyright © 1997 - 2000 WriteLine. All Rights Reserved."/>
          <p:cNvPicPr/>
          <p:nvPr/>
        </p:nvPicPr>
        <p:blipFill>
          <a:blip r:embed="rId1"/>
          <a:stretch/>
        </p:blipFill>
        <p:spPr>
          <a:xfrm>
            <a:off x="152280" y="228600"/>
            <a:ext cx="4496040" cy="5410080"/>
          </a:xfrm>
          <a:prstGeom prst="rect">
            <a:avLst/>
          </a:prstGeom>
          <a:ln w="0">
            <a:noFill/>
          </a:ln>
        </p:spPr>
      </p:pic>
      <p:pic>
        <p:nvPicPr>
          <p:cNvPr id="556" name="" descr="All images Copyright © 1997 - 2000 WriteLine. All Rights Reserved."/>
          <p:cNvPicPr/>
          <p:nvPr/>
        </p:nvPicPr>
        <p:blipFill>
          <a:blip r:embed="rId2"/>
          <a:stretch/>
        </p:blipFill>
        <p:spPr>
          <a:xfrm>
            <a:off x="5029200" y="3733920"/>
            <a:ext cx="4114800" cy="2743200"/>
          </a:xfrm>
          <a:prstGeom prst="rect">
            <a:avLst/>
          </a:prstGeom>
          <a:ln w="0">
            <a:noFill/>
          </a:ln>
        </p:spPr>
      </p:pic>
      <p:pic>
        <p:nvPicPr>
          <p:cNvPr id="557" name="" descr="All images Copyright © 1997 - 2000 WriteLine. All Rights Reserved."/>
          <p:cNvPicPr/>
          <p:nvPr/>
        </p:nvPicPr>
        <p:blipFill>
          <a:blip r:embed="rId3"/>
          <a:stretch/>
        </p:blipFill>
        <p:spPr>
          <a:xfrm>
            <a:off x="5029200" y="304920"/>
            <a:ext cx="4114800" cy="342900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105520" y="533520"/>
            <a:ext cx="2286000" cy="32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Post cards from, </a:t>
            </a:r>
            <a:r>
              <a:rPr b="0" lang="en-US" sz="1800" spc="-1" strike="noStrike" u="sng">
                <a:solidFill>
                  <a:srgbClr val="ffffcc"/>
                </a:solidFill>
                <a:uFillTx/>
                <a:latin typeface="Arial"/>
              </a:rPr>
              <a:t>Carter Presidential  Center, Atlanta Georgia,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http://www.postcardsfrom.com/t1/000526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5562720" y="2743200"/>
            <a:ext cx="281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886e0"/>
                </a:solidFill>
                <a:latin typeface="Arial"/>
              </a:rPr>
              <a:t>It would be nice to work he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5029200" y="4952880"/>
            <a:ext cx="411480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ost cards from, </a:t>
            </a:r>
            <a:r>
              <a:rPr b="0" lang="en-US" sz="1800" spc="-1" strike="noStrike" u="sng">
                <a:solidFill>
                  <a:srgbClr val="000066"/>
                </a:solidFill>
                <a:uFillTx/>
                <a:latin typeface="Arial"/>
              </a:rPr>
              <a:t>Stone mountain,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000066"/>
                </a:solidFill>
                <a:uFillTx/>
                <a:latin typeface="Arial"/>
              </a:rPr>
              <a:t>Georgia,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9/23/2010,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http://www.postcardsfrom.com/t1/000523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80880" y="4572000"/>
            <a:ext cx="41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33520" y="2209680"/>
            <a:ext cx="3809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380880" y="5254560"/>
            <a:ext cx="396252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Post cards from, </a:t>
            </a:r>
            <a:r>
              <a:rPr b="0" lang="en-US" sz="1800" spc="-1" strike="noStrike" u="sng">
                <a:solidFill>
                  <a:srgbClr val="008000"/>
                </a:solidFill>
                <a:uFillTx/>
                <a:latin typeface="Arial"/>
              </a:rPr>
              <a:t>State Capital</a:t>
            </a:r>
            <a:r>
              <a:rPr b="0" lang="en-US" sz="1800" spc="-1" strike="noStrike" u="sng">
                <a:solidFill>
                  <a:srgbClr val="a886e0"/>
                </a:solidFill>
                <a:uFillTx/>
                <a:latin typeface="Arial"/>
              </a:rPr>
              <a:t> Atlanta Georgia, </a:t>
            </a:r>
            <a:r>
              <a:rPr b="0" lang="en-US" sz="1800" spc="-1" strike="noStrike">
                <a:solidFill>
                  <a:srgbClr val="a886e0"/>
                </a:solidFill>
                <a:latin typeface="Arial"/>
              </a:rPr>
              <a:t>9/24/201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http://www.postcardsfrom.com/t1/000522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2438280" y="533520"/>
            <a:ext cx="20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You would need to be pretty important to work here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5334120" y="3962520"/>
            <a:ext cx="350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cc"/>
                </a:solidFill>
                <a:latin typeface="Tahoma"/>
              </a:rPr>
              <a:t>This must be a big tourist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99cc"/>
                </a:solidFill>
                <a:latin typeface="Tahoma"/>
              </a:rPr>
              <a:t>attrac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"/>
          <p:cNvSpPr/>
          <p:nvPr/>
        </p:nvSpPr>
        <p:spPr>
          <a:xfrm>
            <a:off x="152280" y="0"/>
            <a:ext cx="87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esting facts about Georgia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/>
          </p:nvPr>
        </p:nvSpPr>
        <p:spPr>
          <a:xfrm>
            <a:off x="304920" y="762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ere are 57,919 square miles wich means it is the 21</a:t>
            </a:r>
            <a:r>
              <a:rPr b="0" lang="en-US" sz="31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largest state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0T13:21:39Z</dcterms:created>
  <dc:creator>install</dc:creator>
  <dc:description/>
  <dc:language>en-US</dc:language>
  <cp:lastModifiedBy>install</cp:lastModifiedBy>
  <dcterms:modified xsi:type="dcterms:W3CDTF">2010-10-14T13:25:42Z</dcterms:modified>
  <cp:revision>18</cp:revision>
  <dc:subject/>
  <dc:title>Slide 1</dc:title>
</cp:coreProperties>
</file>